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FD7-23B6-4326-AFB9-3C735998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C1D-F5BE-4000-8430-7280D2A1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0BF-6BA8-40AB-BF36-D3AF5F9D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19B-281C-45D9-85A1-A1499BDF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5C9-38E5-4CA6-92C4-EB8A86D9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C54-0B0B-422A-AAB0-50495B4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C46-61E1-4803-994A-28EEB41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5D9-5F7F-4EF4-8054-F881625C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245-C978-4CD1-8021-41B7BD84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938-3C00-43FA-AE54-43750F4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E45-660C-4449-9469-62402A1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A00-64E8-4A5C-A366-4D5E656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156-1C0E-4D31-A783-11AAF56164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ašto nam se čini da je štap slomlj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Što su svjetlovo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avijena svjet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se svjetlosni snop sav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SnapShot(673).jpg"/>
          <p:cNvPicPr/>
          <p:nvPr/>
        </p:nvPicPr>
        <p:blipFill>
          <a:blip r:embed="rId3"/>
          <a:srcRect l="19685" t="0" r="30907" b="24147"/>
          <a:stretch/>
        </p:blipFill>
        <p:spPr>
          <a:xfrm>
            <a:off x="4572000" y="1773360"/>
            <a:ext cx="40654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vjetlovod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savitljiva optička vlakna, provode svjetlosne valove s jednoga na drugo mjesto unutar vlak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SnapShot(675).jpg"/>
          <p:cNvPicPr/>
          <p:nvPr/>
        </p:nvPicPr>
        <p:blipFill>
          <a:blip r:embed="rId2"/>
          <a:stretch/>
        </p:blipFill>
        <p:spPr>
          <a:xfrm>
            <a:off x="1835280" y="3141720"/>
            <a:ext cx="54864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68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izgleda slamčica u soku? Pokušajte skicir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lamčica izgleda slomlje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vjetlosni snop prelazi u v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Što se događa sa svjetlosnim snopom na prijelazu iz zraka u vo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lom svjetlosti.jpg"/>
          <p:cNvPicPr/>
          <p:nvPr/>
        </p:nvPicPr>
        <p:blipFill>
          <a:blip r:embed="rId4"/>
          <a:stretch/>
        </p:blipFill>
        <p:spPr>
          <a:xfrm>
            <a:off x="4284720" y="2205000"/>
            <a:ext cx="42386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vjetlost pre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 zraka u vodu,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tlosne zrake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m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ma okomici na graničnu plohu.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ut loma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β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nji je od upadnoga kuta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β &lt; 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Što se događa kada svjetlost prelazi iz vode u zra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gdje je novč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žica promaši novči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SnapShot(485).jpg"/>
          <p:cNvPicPr/>
          <p:nvPr/>
        </p:nvPicPr>
        <p:blipFill>
          <a:blip r:embed="rId4"/>
          <a:stretch/>
        </p:blipFill>
        <p:spPr>
          <a:xfrm>
            <a:off x="2411280" y="3500280"/>
            <a:ext cx="47545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vjetlost pre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 vode u zrak, lomi se od okomic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graničnu plohu. Kut loma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β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veći od upadnoga kuta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svjetlost mijenja smjer na granici dva sredst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prijelazu iz zraka u vodu svjetlost se lomi prema okomici jer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zina svjetlosti u vodi manja nego u zra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novčić u pos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se pojavio cijeli novči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granici vode i zraka svjetlost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mi od okomic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 vidimo sliku novčića koji je iza stijen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309.tif"/>
          <p:cNvPicPr/>
          <p:nvPr/>
        </p:nvPicPr>
        <p:blipFill>
          <a:blip r:embed="rId3"/>
          <a:stretch/>
        </p:blipFill>
        <p:spPr>
          <a:xfrm>
            <a:off x="4643280" y="1341360"/>
            <a:ext cx="4035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ako se svjetlost može „zarobiti” u prozirnom sredstv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916280"/>
            <a:ext cx="4546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oliko svijeća vidi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vidimo sliku svjeć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310.tif"/>
          <p:cNvPicPr/>
          <p:nvPr/>
        </p:nvPicPr>
        <p:blipFill>
          <a:blip r:embed="rId3"/>
          <a:stretch/>
        </p:blipFill>
        <p:spPr>
          <a:xfrm>
            <a:off x="5545080" y="2276640"/>
            <a:ext cx="17812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ćavanjem upadnog kuta u vodi, može se postići da se svjetlost odbije od površine vode natrag u v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u pojavu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tpuno odbijanj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totalna refleksija svjetl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r se sva svjetlost vraća natrag u sredstvo iz kojeg je i kren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ranični kut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hr-HR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upadni kut u optički gušćem sredstvu pri kojemu nastaje potpuno odbijanje svjetl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8:01:23Z</dcterms:created>
  <dc:creator>Zdenko</dc:creator>
  <dc:description/>
  <dc:language>en-US</dc:language>
  <cp:lastModifiedBy>Zdenko</cp:lastModifiedBy>
  <dcterms:modified xsi:type="dcterms:W3CDTF">2014-07-18T09:15:46Z</dcterms:modified>
  <cp:revision>8</cp:revision>
  <dc:subject/>
  <dc:title>Zašto nam se čini da je štap slomljen</dc:title>
</cp:coreProperties>
</file>